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4.png" ContentType="image/png"/>
  <Override PartName="/ppt/media/image34.png" ContentType="image/png"/>
  <Override PartName="/ppt/media/image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30.jpeg" ContentType="image/jpeg"/>
  <Override PartName="/ppt/media/image35.wmf" ContentType="image/x-wmf"/>
  <Override PartName="/ppt/media/image15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1B8-80E7-4EB5-B759-8E2964D1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E48-9056-49FB-9116-B4D198BF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B50-3901-45D4-9A14-888F5BD14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1AF3-9FE5-4686-A45C-9042D03E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C401-63BA-4AD8-913B-18B365FC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A843-A6C0-405E-A561-D82D5A81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D5C4-9F06-4408-BFA9-CBFE1767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C39E-A386-4420-A446-97607E3D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0629-22C3-4E8F-8598-70BBFB85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2836-53B0-41C5-94F2-15A0772D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E88E-5AB2-4890-B466-0332ED3B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39D-F7EB-4CD1-B765-9B6E769C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AF8C-A445-49DD-B475-37B1346B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DDE9-693A-4F53-B0F7-B44BD301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7D5B-5604-4334-BB10-35EDEB38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664C-D1F1-4673-BF73-74BFFEBC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58AE-504E-44E0-9437-A3283380E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01F5-7366-4E3A-A7F9-41B2ABB4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0EB-77F0-44BC-AA9E-A52B9B09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C4E-0427-4DE7-ADB8-870A029D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AC90-5673-464C-8171-A4A417AE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72E9-2E82-45C2-BB2B-AE676F0C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2A9-4BEF-472E-BCE2-141A5913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2A89-35ED-4A9F-BA5B-F73CC5FB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5236-C7E6-4991-93F1-EB1D24DD43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0552-0A60-4CAC-946D-83C1AA4C6D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Izotopy" TargetMode="External"/><Relationship Id="rId2" Type="http://schemas.openxmlformats.org/officeDocument/2006/relationships/hyperlink" Target="http://www.google.pl/search?q=izotopy&amp;hl=pl&amp;source=lnms&amp;tbm=isch&amp;sa=X&amp;ei=pzV9Ud_6KMaWO43xgfAN&amp;sqi=2&amp;ved=0CAcQ_AUoAQ&amp;biw=1366&amp;bih=599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31640" y="692280"/>
            <a:ext cx="5700600" cy="23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ourier New"/>
              </a:rPr>
              <a:t>IZOTOPY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01120" y="836640"/>
            <a:ext cx="58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liwo” do produkcji energii –elektrownie jądr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788000" y="1268280"/>
            <a:ext cx="4032000" cy="2649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2941560"/>
            <a:ext cx="435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468360" y="476280"/>
          <a:ext cx="2819520" cy="63324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YW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684360" y="981000"/>
            <a:ext cx="759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cja broni masowego rażen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ń tą po raz pierwszy zastosowano w czasie II wojny światowej. Pierwszymi ofiarami byli mieszkańcy Hiroszimy i Nagasaki. Bomby jądrowe zrobione są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znacznej części z trotylu. W czasie wybuchu cały ładunek zamienia się w gazy osiągające temperaturę 1000000 stopni Celsjusza. Promieniowanie cieplne rozprzestrzenia się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prędkością 300 tys. Kilometrów na sekundę (prędkość światła) niszcząc wszystko na swojej drodze. Ta broń w rękach człowieka jest czymś najniebezpieczniejszym na świeci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843280" y="4221000"/>
            <a:ext cx="345744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egatywnie działają na organizm człowiek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(skutki promieniowania zależą od pochłoniętej dawki) np. powodując białaczkę, kataraktę, chorobę popromienn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867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UWAGA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KOLEJNY SLAJD ZAWIERA ZDJĘ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DRASTYCZ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00000" y="268200"/>
            <a:ext cx="3456000" cy="2320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580000" y="1268280"/>
            <a:ext cx="2792520" cy="2881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374508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rostokąt 5" descr=""/>
          <p:cNvPicPr/>
          <p:nvPr/>
        </p:nvPicPr>
        <p:blipFill>
          <a:blip r:embed="rId1"/>
          <a:stretch/>
        </p:blipFill>
        <p:spPr>
          <a:xfrm>
            <a:off x="1587600" y="309600"/>
            <a:ext cx="5968800" cy="10731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 atomowa jest to średnia masa atomowa  danego pierwiastka chemicznego, z uwzględnieniem jego składu izotopow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 atomowa danego pierwiastka chemicznego jest średnią masą (mat) wynikającą z zawartości procentowej pierwiast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przykład chlor stanowi mieszaninę dwóch izotopów: 75,53 %  35Cl i 24,47 % 37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280600" y="3716280"/>
            <a:ext cx="4434120" cy="623880"/>
            <a:chOff x="2280600" y="3716280"/>
            <a:chExt cx="4434120" cy="623880"/>
          </a:xfrm>
        </p:grpSpPr>
        <p:sp>
          <p:nvSpPr>
            <p:cNvPr id="187" name="Rectangle 3"/>
            <p:cNvSpPr/>
            <p:nvPr/>
          </p:nvSpPr>
          <p:spPr>
            <a:xfrm>
              <a:off x="2280600" y="3754800"/>
              <a:ext cx="761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88" name=""/>
            <p:cNvGraphicFramePr/>
            <p:nvPr/>
          </p:nvGraphicFramePr>
          <p:xfrm>
            <a:off x="3043080" y="3716280"/>
            <a:ext cx="3671640" cy="623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3080" y="3716280"/>
                      <a:ext cx="367164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0" name="Rectangle 4"/>
          <p:cNvSpPr/>
          <p:nvPr/>
        </p:nvSpPr>
        <p:spPr>
          <a:xfrm>
            <a:off x="757440" y="4728600"/>
            <a:ext cx="749700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at</a:t>
            </a:r>
            <a:r>
              <a:rPr b="1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średnia masa atom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…., % m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zawartość procentowa poszczególnych izotop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,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…, A</a:t>
            </a:r>
            <a:r>
              <a:rPr b="0" lang="pl-P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 - masy atomowe poszczególnych izotop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3311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Ćwiczeni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42920" y="126828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na miedź jest mieszaniną dwóch izotopów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 i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. Oblicz skład procentowy mieszaniny wiedząc, że masa atomowa miedzi wynosi 63,55 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63160" y="2565360"/>
            <a:ext cx="4434120" cy="623880"/>
            <a:chOff x="2063160" y="2565360"/>
            <a:chExt cx="4434120" cy="623880"/>
          </a:xfrm>
        </p:grpSpPr>
        <p:sp>
          <p:nvSpPr>
            <p:cNvPr id="194" name="Rectangle 3"/>
            <p:cNvSpPr/>
            <p:nvPr/>
          </p:nvSpPr>
          <p:spPr>
            <a:xfrm>
              <a:off x="2063160" y="2603880"/>
              <a:ext cx="7614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</a:t>
              </a:r>
              <a:r>
                <a:rPr b="0" lang="en-US" sz="2400" spc="-1" strike="noStrike" baseline="-30000">
                  <a:solidFill>
                    <a:srgbClr val="000000"/>
                  </a:solidFill>
                  <a:latin typeface="Arial"/>
                  <a:ea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2825640" y="2565360"/>
            <a:ext cx="3671640" cy="623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25640" y="2565360"/>
                      <a:ext cx="3671640" cy="6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http://pl.wikipedia.org/wiki/Izoto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767ff"/>
                </a:solidFill>
                <a:uFillTx/>
                <a:latin typeface="Arial"/>
                <a:hlinkClick r:id="rId2"/>
              </a:rPr>
              <a:t>http://www.google.pl/search?q=izotopy&amp;hl=pl&amp;source=lnms&amp;tbm=isch&amp;sa=X&amp;ei=pzV9Ud_6KMaWO43xgfAN&amp;sqi=2&amp;ved=0CAcQ_AUoAQ&amp;biw=1366&amp;bih=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ZOTOPY – CO TO JES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403704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ą to atomy, które w jądrze mają taką samą liczbę protonów (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a różnią się liczbą neutronów (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280" y="1989000"/>
            <a:ext cx="822960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29080" y="1609560"/>
            <a:ext cx="3024360" cy="43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ZYKŁADY IZOTOP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16836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51640" y="3789360"/>
            <a:ext cx="316836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651640" y="4508640"/>
            <a:ext cx="3168360" cy="919080"/>
          </a:xfrm>
          <a:prstGeom prst="rect">
            <a:avLst/>
          </a:prstGeom>
          <a:ln w="0">
            <a:noFill/>
          </a:ln>
        </p:spPr>
      </p:pic>
      <p:grpSp>
        <p:nvGrpSpPr>
          <p:cNvPr id="105" name="Grupa 33"/>
          <p:cNvGrpSpPr/>
          <p:nvPr/>
        </p:nvGrpSpPr>
        <p:grpSpPr>
          <a:xfrm>
            <a:off x="324000" y="852480"/>
            <a:ext cx="4751280" cy="6003720"/>
            <a:chOff x="324000" y="852480"/>
            <a:chExt cx="4751280" cy="6003720"/>
          </a:xfrm>
        </p:grpSpPr>
        <p:pic>
          <p:nvPicPr>
            <p:cNvPr id="106" name="Prostokąt 6" descr=""/>
            <p:cNvPicPr/>
            <p:nvPr/>
          </p:nvPicPr>
          <p:blipFill>
            <a:blip r:embed="rId4"/>
            <a:stretch/>
          </p:blipFill>
          <p:spPr>
            <a:xfrm>
              <a:off x="1139040" y="852480"/>
              <a:ext cx="3936240" cy="101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upa 20"/>
            <p:cNvGrpSpPr/>
            <p:nvPr/>
          </p:nvGrpSpPr>
          <p:grpSpPr>
            <a:xfrm>
              <a:off x="1467720" y="1859400"/>
              <a:ext cx="1456920" cy="1264320"/>
              <a:chOff x="1467720" y="1859400"/>
              <a:chExt cx="1456920" cy="1264320"/>
            </a:xfrm>
          </p:grpSpPr>
          <p:sp>
            <p:nvSpPr>
              <p:cNvPr id="108" name="Elipsa 7"/>
              <p:cNvSpPr/>
              <p:nvPr/>
            </p:nvSpPr>
            <p:spPr>
              <a:xfrm>
                <a:off x="1467720" y="1859400"/>
                <a:ext cx="1265040" cy="12643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Elipsa 10"/>
              <p:cNvGrpSpPr/>
              <p:nvPr/>
            </p:nvGrpSpPr>
            <p:grpSpPr>
              <a:xfrm>
                <a:off x="1884240" y="2308320"/>
                <a:ext cx="428400" cy="438840"/>
                <a:chOff x="1884240" y="2308320"/>
                <a:chExt cx="428400" cy="438840"/>
              </a:xfrm>
            </p:grpSpPr>
            <p:pic>
              <p:nvPicPr>
                <p:cNvPr id="110" name="Elipsa 10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84240" y="2308320"/>
                  <a:ext cx="428400" cy="43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" name=""/>
                <p:cNvSpPr/>
                <p:nvPr/>
              </p:nvSpPr>
              <p:spPr>
                <a:xfrm>
                  <a:off x="1993680" y="2411280"/>
                  <a:ext cx="21312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Elipsa 13"/>
              <p:cNvGrpSpPr/>
              <p:nvPr/>
            </p:nvGrpSpPr>
            <p:grpSpPr>
              <a:xfrm>
                <a:off x="2537280" y="2340360"/>
                <a:ext cx="387360" cy="406800"/>
                <a:chOff x="2537280" y="2340360"/>
                <a:chExt cx="387360" cy="406800"/>
              </a:xfrm>
            </p:grpSpPr>
            <p:pic>
              <p:nvPicPr>
                <p:cNvPr id="113" name="Elipsa 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37280" y="2340360"/>
                  <a:ext cx="38736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"/>
                <p:cNvSpPr/>
                <p:nvPr/>
              </p:nvSpPr>
              <p:spPr>
                <a:xfrm>
                  <a:off x="2647800" y="2465280"/>
                  <a:ext cx="17028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upa 21"/>
            <p:cNvGrpSpPr/>
            <p:nvPr/>
          </p:nvGrpSpPr>
          <p:grpSpPr>
            <a:xfrm>
              <a:off x="1531080" y="3440160"/>
              <a:ext cx="1330200" cy="1264320"/>
              <a:chOff x="1531080" y="3440160"/>
              <a:chExt cx="1330200" cy="1264320"/>
            </a:xfrm>
          </p:grpSpPr>
          <p:sp>
            <p:nvSpPr>
              <p:cNvPr id="116" name="Elipsa 8"/>
              <p:cNvSpPr/>
              <p:nvPr/>
            </p:nvSpPr>
            <p:spPr>
              <a:xfrm>
                <a:off x="1547280" y="3440160"/>
                <a:ext cx="1314000" cy="126432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Elipsa 11"/>
              <p:cNvGrpSpPr/>
              <p:nvPr/>
            </p:nvGrpSpPr>
            <p:grpSpPr>
              <a:xfrm>
                <a:off x="1859400" y="3823200"/>
                <a:ext cx="439560" cy="438840"/>
                <a:chOff x="1859400" y="3823200"/>
                <a:chExt cx="439560" cy="438840"/>
              </a:xfrm>
            </p:grpSpPr>
            <p:pic>
              <p:nvPicPr>
                <p:cNvPr id="118" name="Elipsa 1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859400" y="3823200"/>
                  <a:ext cx="439560" cy="438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1968480" y="3929040"/>
                  <a:ext cx="22104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Elipsa 14"/>
              <p:cNvGrpSpPr/>
              <p:nvPr/>
            </p:nvGrpSpPr>
            <p:grpSpPr>
              <a:xfrm>
                <a:off x="1531080" y="3475080"/>
                <a:ext cx="402480" cy="406800"/>
                <a:chOff x="1531080" y="3475080"/>
                <a:chExt cx="402480" cy="406800"/>
              </a:xfrm>
            </p:grpSpPr>
            <p:pic>
              <p:nvPicPr>
                <p:cNvPr id="121" name="Elipsa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31080" y="3475080"/>
                  <a:ext cx="402480" cy="406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" name=""/>
                <p:cNvSpPr/>
                <p:nvPr/>
              </p:nvSpPr>
              <p:spPr>
                <a:xfrm>
                  <a:off x="1646640" y="3603240"/>
                  <a:ext cx="176760" cy="17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Elipsa 16"/>
              <p:cNvGrpSpPr/>
              <p:nvPr/>
            </p:nvGrpSpPr>
            <p:grpSpPr>
              <a:xfrm>
                <a:off x="2182320" y="3849840"/>
                <a:ext cx="412920" cy="411840"/>
                <a:chOff x="2182320" y="3849840"/>
                <a:chExt cx="412920" cy="411840"/>
              </a:xfrm>
            </p:grpSpPr>
            <p:pic>
              <p:nvPicPr>
                <p:cNvPr id="124" name="Elipsa 1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182320" y="3849840"/>
                  <a:ext cx="412920" cy="41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" name=""/>
                <p:cNvSpPr/>
                <p:nvPr/>
              </p:nvSpPr>
              <p:spPr>
                <a:xfrm>
                  <a:off x="2281320" y="3928680"/>
                  <a:ext cx="221040" cy="22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upa 22"/>
            <p:cNvGrpSpPr/>
            <p:nvPr/>
          </p:nvGrpSpPr>
          <p:grpSpPr>
            <a:xfrm>
              <a:off x="1531080" y="4831200"/>
              <a:ext cx="1330200" cy="1327680"/>
              <a:chOff x="1531080" y="4831200"/>
              <a:chExt cx="1330200" cy="1327680"/>
            </a:xfrm>
          </p:grpSpPr>
          <p:sp>
            <p:nvSpPr>
              <p:cNvPr id="127" name="Elipsa 9"/>
              <p:cNvSpPr/>
              <p:nvPr/>
            </p:nvSpPr>
            <p:spPr>
              <a:xfrm>
                <a:off x="1531080" y="4972320"/>
                <a:ext cx="1330200" cy="1186560"/>
              </a:xfrm>
              <a:prstGeom prst="ellipse">
                <a:avLst/>
              </a:prstGeom>
              <a:gradFill rotWithShape="0">
                <a:gsLst>
                  <a:gs pos="0">
                    <a:srgbClr val="ffa2a1"/>
                  </a:gs>
                  <a:gs pos="100000">
                    <a:srgbClr val="ffe5e5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" name="Elipsa 12"/>
              <p:cNvGrpSpPr/>
              <p:nvPr/>
            </p:nvGrpSpPr>
            <p:grpSpPr>
              <a:xfrm>
                <a:off x="1969920" y="5333400"/>
                <a:ext cx="444960" cy="411840"/>
                <a:chOff x="1969920" y="5333400"/>
                <a:chExt cx="444960" cy="411840"/>
              </a:xfrm>
            </p:grpSpPr>
            <p:pic>
              <p:nvPicPr>
                <p:cNvPr id="129" name="Elipsa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969920" y="5333400"/>
                  <a:ext cx="444960" cy="41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>
                  <a:off x="2084040" y="54309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Elipsa 15"/>
              <p:cNvGrpSpPr/>
              <p:nvPr/>
            </p:nvGrpSpPr>
            <p:grpSpPr>
              <a:xfrm>
                <a:off x="2023560" y="4831200"/>
                <a:ext cx="407520" cy="381600"/>
                <a:chOff x="2023560" y="4831200"/>
                <a:chExt cx="407520" cy="381600"/>
              </a:xfrm>
            </p:grpSpPr>
            <p:pic>
              <p:nvPicPr>
                <p:cNvPr id="132" name="Elipsa 1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23560" y="4831200"/>
                  <a:ext cx="407520" cy="38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>
                  <a:off x="2138040" y="4947840"/>
                  <a:ext cx="1792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" name="Elipsa 18"/>
              <p:cNvGrpSpPr/>
              <p:nvPr/>
            </p:nvGrpSpPr>
            <p:grpSpPr>
              <a:xfrm>
                <a:off x="1857600" y="5594760"/>
                <a:ext cx="418320" cy="386640"/>
                <a:chOff x="1857600" y="5594760"/>
                <a:chExt cx="418320" cy="386640"/>
              </a:xfrm>
            </p:grpSpPr>
            <p:pic>
              <p:nvPicPr>
                <p:cNvPr id="135" name="Elipsa 18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1857600" y="5594760"/>
                  <a:ext cx="4183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>
                  <a:off x="1957680" y="56685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Elipsa 19"/>
              <p:cNvGrpSpPr/>
              <p:nvPr/>
            </p:nvGrpSpPr>
            <p:grpSpPr>
              <a:xfrm>
                <a:off x="2174040" y="5594760"/>
                <a:ext cx="418320" cy="386640"/>
                <a:chOff x="2174040" y="5594760"/>
                <a:chExt cx="418320" cy="386640"/>
              </a:xfrm>
            </p:grpSpPr>
            <p:pic>
              <p:nvPicPr>
                <p:cNvPr id="138" name="Elipsa 19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174040" y="5594760"/>
                  <a:ext cx="418320" cy="38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>
                  <a:off x="2274120" y="5668560"/>
                  <a:ext cx="223920" cy="20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" name="Prostokąt zaokrąglony 23"/>
            <p:cNvSpPr/>
            <p:nvPr/>
          </p:nvSpPr>
          <p:spPr>
            <a:xfrm>
              <a:off x="3115080" y="23018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Prostokąt zaokrąglony 24"/>
            <p:cNvSpPr/>
            <p:nvPr/>
          </p:nvSpPr>
          <p:spPr>
            <a:xfrm>
              <a:off x="3115080" y="37562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Prostokąt zaokrąglony 25"/>
            <p:cNvSpPr/>
            <p:nvPr/>
          </p:nvSpPr>
          <p:spPr>
            <a:xfrm>
              <a:off x="3115080" y="5273640"/>
              <a:ext cx="1583640" cy="50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30000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rostokąt 26" descr=""/>
            <p:cNvPicPr/>
            <p:nvPr/>
          </p:nvPicPr>
          <p:blipFill>
            <a:blip r:embed="rId14"/>
            <a:stretch/>
          </p:blipFill>
          <p:spPr>
            <a:xfrm>
              <a:off x="3369960" y="1767600"/>
              <a:ext cx="118512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rostokąt 27" descr=""/>
            <p:cNvPicPr/>
            <p:nvPr/>
          </p:nvPicPr>
          <p:blipFill>
            <a:blip r:embed="rId15"/>
            <a:stretch/>
          </p:blipFill>
          <p:spPr>
            <a:xfrm>
              <a:off x="3187800" y="3218040"/>
              <a:ext cx="15606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rostokąt 28" descr=""/>
            <p:cNvPicPr/>
            <p:nvPr/>
          </p:nvPicPr>
          <p:blipFill>
            <a:blip r:embed="rId16"/>
            <a:stretch/>
          </p:blipFill>
          <p:spPr>
            <a:xfrm>
              <a:off x="3375360" y="4727520"/>
              <a:ext cx="1099080" cy="636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" name="Elipsa 29"/>
            <p:cNvGrpSpPr/>
            <p:nvPr/>
          </p:nvGrpSpPr>
          <p:grpSpPr>
            <a:xfrm>
              <a:off x="324000" y="5594760"/>
              <a:ext cx="444960" cy="438840"/>
              <a:chOff x="324000" y="5594760"/>
              <a:chExt cx="444960" cy="438840"/>
            </a:xfrm>
          </p:grpSpPr>
          <p:pic>
            <p:nvPicPr>
              <p:cNvPr id="147" name="Elipsa 29" descr=""/>
              <p:cNvPicPr/>
              <p:nvPr/>
            </p:nvPicPr>
            <p:blipFill>
              <a:blip r:embed="rId17"/>
              <a:stretch/>
            </p:blipFill>
            <p:spPr>
              <a:xfrm>
                <a:off x="324000" y="5594760"/>
                <a:ext cx="444960" cy="43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437400" y="5699160"/>
                <a:ext cx="2239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pole tekstowe 30"/>
            <p:cNvSpPr/>
            <p:nvPr/>
          </p:nvSpPr>
          <p:spPr>
            <a:xfrm>
              <a:off x="708120" y="5527800"/>
              <a:ext cx="1773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t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eutro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lektr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Elipsa 31"/>
            <p:cNvGrpSpPr/>
            <p:nvPr/>
          </p:nvGrpSpPr>
          <p:grpSpPr>
            <a:xfrm>
              <a:off x="339840" y="6001560"/>
              <a:ext cx="417960" cy="411840"/>
              <a:chOff x="339840" y="6001560"/>
              <a:chExt cx="417960" cy="411840"/>
            </a:xfrm>
          </p:grpSpPr>
          <p:pic>
            <p:nvPicPr>
              <p:cNvPr id="151" name="Elipsa 31" descr=""/>
              <p:cNvPicPr/>
              <p:nvPr/>
            </p:nvPicPr>
            <p:blipFill>
              <a:blip r:embed="rId18"/>
              <a:stretch/>
            </p:blipFill>
            <p:spPr>
              <a:xfrm>
                <a:off x="339840" y="6001560"/>
                <a:ext cx="41796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" name=""/>
              <p:cNvSpPr/>
              <p:nvPr/>
            </p:nvSpPr>
            <p:spPr>
              <a:xfrm>
                <a:off x="437040" y="6078600"/>
                <a:ext cx="22392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Elipsa 32"/>
            <p:cNvGrpSpPr/>
            <p:nvPr/>
          </p:nvGrpSpPr>
          <p:grpSpPr>
            <a:xfrm>
              <a:off x="377280" y="6322680"/>
              <a:ext cx="407520" cy="406800"/>
              <a:chOff x="377280" y="6322680"/>
              <a:chExt cx="407520" cy="406800"/>
            </a:xfrm>
          </p:grpSpPr>
          <p:pic>
            <p:nvPicPr>
              <p:cNvPr id="154" name="Elipsa 32" descr=""/>
              <p:cNvPicPr/>
              <p:nvPr/>
            </p:nvPicPr>
            <p:blipFill>
              <a:blip r:embed="rId19"/>
              <a:stretch/>
            </p:blipFill>
            <p:spPr>
              <a:xfrm>
                <a:off x="377280" y="6322680"/>
                <a:ext cx="407520" cy="40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491040" y="6448680"/>
                <a:ext cx="17928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4358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ZOTOPY TLEN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len posiada trzy trwałe izotopy nie promieniotwórc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600360" cy="817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987640" y="5373720"/>
            <a:ext cx="3600360" cy="79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042920" y="4221000"/>
            <a:ext cx="684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Oraz trzy sztucznie otrzymywane izoto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9252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Palatino Linotype"/>
              </a:rPr>
              <a:t>RODZAJE IZOTOPÓ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rwał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stabiln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o takie atomy, których jądra nie ulegają samorzutnym przemianom w i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mieniotwórcze (radioizotop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etrwał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ą to atomy ulegające samorzutnym przemianom jądrowy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atural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izotopy występujące w przyrodz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ztucz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trzymane przez człowieka na drodze przemian promieniotwórczych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otopy promieniotwórcze, radioizotopy – odmiany pierwiastków, których jądra atomów są niestabilne i samorzutnie ulegają przemianie promieniotwórczej. W wyniku tej przemiany powstają inne atomy, cząstki elementarne, a także uwalniana jest energia w postaci promieniowania gamma i energii kinetycznej produktów przemi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otopy promieniotwórcze charakteryzuje czas połowicznego rozpadu, tj. średni czas, po którym połowa jąder danego pierwiastka (izotopu) ulegnie przemianie. Czas połowicznego rozpadu nie zależy od otoczenia chemicznego atomu izo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izotopy wykazują aktywność promieniotwórcz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Tytuł 1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604836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Tytuł 1" descr=""/>
          <p:cNvPicPr/>
          <p:nvPr/>
        </p:nvPicPr>
        <p:blipFill>
          <a:blip r:embed="rId1"/>
          <a:stretch/>
        </p:blipFill>
        <p:spPr>
          <a:xfrm>
            <a:off x="826920" y="-243000"/>
            <a:ext cx="749304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55640" y="1700280"/>
          <a:ext cx="2587680" cy="504720"/>
        </p:xfrm>
        <a:graphic>
          <a:graphicData uri="http://schemas.openxmlformats.org/drawingml/2006/table">
            <a:tbl>
              <a:tblPr/>
              <a:tblGrid>
                <a:gridCol w="258768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YTYW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1d7ec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39640" y="2349360"/>
            <a:ext cx="49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zotopy mogą służyć do diagnostyki stanu technicznego i wykrywania wad urządzeń przemysłowych, nawet w trudno dostępnych miejscach np. czujnik dy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eltrox.pl/zdjecia/czujki/czujnik_czaduADR.jpg"/>
          <p:cNvPicPr/>
          <p:nvPr/>
        </p:nvPicPr>
        <p:blipFill>
          <a:blip r:embed="rId2"/>
          <a:stretch/>
        </p:blipFill>
        <p:spPr>
          <a:xfrm>
            <a:off x="5580000" y="19162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4581360"/>
            <a:ext cx="55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ą używane do sterylizacji żywności (niszczy pasożyty i pleśnie, dzięki czemu możliwe jest jej długie przechowywani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medycynie np. do diagnostyki i terapii</a:t>
            </a:r>
            <a:r>
              <a:rPr b="1" lang="pl-PL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chorzeń nowotworowych, np. używany w bombie kobaltowej – urządzeniu stosowanym w medycynie do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dalnego napromieniowania chorych tkanek pacjenta, do badań tarczycy.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http://www.radioszczecin.pl/public/39/8463.jpg"/>
          <p:cNvPicPr/>
          <p:nvPr/>
        </p:nvPicPr>
        <p:blipFill>
          <a:blip r:embed="rId1"/>
          <a:stretch/>
        </p:blipFill>
        <p:spPr>
          <a:xfrm>
            <a:off x="1314360" y="2062080"/>
            <a:ext cx="6353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b0ee"/>
            </a:gs>
            <a:gs pos="100000">
              <a:srgbClr val="7c96e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zastosowano jako zegar archeologiczny, bo umożliwia datowanie znalezisk archeologicznych i paleontologicznych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fotopolska.eu/foto/219/219751.jpg"/>
          <p:cNvPicPr/>
          <p:nvPr/>
        </p:nvPicPr>
        <p:blipFill>
          <a:blip r:embed="rId1"/>
          <a:stretch/>
        </p:blipFill>
        <p:spPr>
          <a:xfrm>
            <a:off x="1692360" y="1341360"/>
            <a:ext cx="51991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1:23:48Z</dcterms:created>
  <dc:creator>oliwia</dc:creator>
  <dc:description/>
  <dc:language>en-US</dc:language>
  <cp:lastModifiedBy>Toshiba</cp:lastModifiedBy>
  <dcterms:modified xsi:type="dcterms:W3CDTF">2013-04-28T14:45:21Z</dcterms:modified>
  <cp:revision>7</cp:revision>
  <dc:subject/>
  <dc:title>IZOTOPY</dc:title>
</cp:coreProperties>
</file>